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ilddrü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größ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1760" y="549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ilddrüse vergröß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en-US" sz="1800" spc="-1" strike="noStrike" u="sng" baseline="-25000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oder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0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59200" y="636336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Thyrox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3"/>
            <a:endCxn id="10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Katz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5720" y="549360"/>
            <a:ext cx="314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ilddrüse vergröße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3800" y="6120000"/>
            <a:ext cx="1621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Thyrox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norm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de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5360" y="549360"/>
            <a:ext cx="452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ilddrüse vergröße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normal ode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 Thyroxin-produzierende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ilddrüs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yreoid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200" y="6363360"/>
            <a:ext cx="1380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Thyrox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09:04:01Z</dcterms:modified>
  <cp:revision>332</cp:revision>
  <dc:subject/>
  <dc:title>Vorstellung einer Neuheit</dc:title>
</cp:coreProperties>
</file>